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F15ED-C404-4176-BB5C-033C8A601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DC8E-AF6D-40C6-BDA1-EC4E960A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493B8-7A06-4BE1-900E-8386A97E8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A05EF-38D7-48C4-A158-5AD4C054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34C1C-B7F4-4594-86C9-6C79D79C5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E29E1-5EED-4E69-B9B8-3B8E4229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EE8E4-9712-47A4-A1BB-924FF70BC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1CF61-FC8D-49F7-AE3F-683E99188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99FD-1FF8-4082-B798-0D797940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A77E1-AFAE-485B-A476-80777B4A7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EC3BC-973E-418D-B44F-F64C5851F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0604-F4B9-41D1-9175-AF1F99B4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2213D-43F4-4C09-B931-CF94C36D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FEBC6-1059-479D-B5E2-C62A845B0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AF84F-2F30-4D6E-ACA6-B671E7027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465C0-F044-40D5-9A0F-E695D4B11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8BA9D-E642-4DD7-8438-D9E54DB71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181C-1A62-47B4-841C-0DB3302D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C6D5-46BA-4C92-B191-0CB82638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F8F8-6C36-4201-904D-8CE0C9FBE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ED90-18EE-4053-A268-B4E4DC2B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58A0-8BC8-4E02-824F-517E57788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6604F-035A-49CA-BCC2-3278A804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807C-D7AE-465A-BA88-A855A7AD5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078E-48C0-4E67-A920-FB28B390949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8928-A728-4CE3-A4BD-6E4B797C72F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PCECABA</a:t>
            </a:r>
            <a:endParaRPr b="0" lang="en-US" sz="5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ISIÒN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ISLACIÒN PROFESIO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Para que esa “</a:t>
            </a:r>
            <a:r>
              <a:rPr b="1" i="1" lang="en-US" sz="2400" spc="-1" strike="noStrike">
                <a:solidFill>
                  <a:srgbClr val="000000"/>
                </a:solidFill>
                <a:latin typeface="Tahoma"/>
              </a:rPr>
              <a:t>calificaciòn mora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0" i="1" lang="en-US" sz="2400" spc="-1" strike="noStrike">
                <a:solidFill>
                  <a:srgbClr val="000000"/>
                </a:solidFill>
                <a:latin typeface="Tahoma"/>
              </a:rPr>
              <a:t>sea para bie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debemos respet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este códig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Virtud quiere decir no sòlo una perfecciòn moral propiamente dicha, sino toda excelencia o perfecciòn en general, que de algùn modo es valiosa, y contribuye, por ende, a plasmar un tipo mejor de humanida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Aristóte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itas bibliográf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rgandoña Ràmiz, A. (2003). </a:t>
            </a:r>
            <a:r>
              <a:rPr b="0" i="1" lang="es-ES" sz="2000" spc="-1" strike="noStrike">
                <a:solidFill>
                  <a:srgbClr val="000000"/>
                </a:solidFill>
                <a:latin typeface="Tahoma"/>
              </a:rPr>
              <a:t>Sobre los sistemas de gestión ética, social y medioambiental en las empresas.</a:t>
            </a:r>
            <a:r>
              <a:rPr b="0" lang="es-ES" sz="2000" spc="-1" strike="noStrike">
                <a:solidFill>
                  <a:srgbClr val="000000"/>
                </a:solidFill>
                <a:latin typeface="Tahoma"/>
              </a:rPr>
              <a:t> Universidad de Navarra: IESE.</a:t>
            </a:r>
            <a:endParaRPr b="0" lang="en-US" sz="2000" spc="-1" strike="noStrike">
              <a:solidFill>
                <a:srgbClr val="000000"/>
              </a:solidFill>
              <a:latin typeface="Tahoma"/>
            </a:endParaRPr>
          </a:p>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arcía Alonso, L. (2009). </a:t>
            </a:r>
            <a:r>
              <a:rPr b="0" i="1" lang="es-ES" sz="2000" spc="-1" strike="noStrike">
                <a:solidFill>
                  <a:srgbClr val="000000"/>
                </a:solidFill>
                <a:latin typeface="Tahoma"/>
              </a:rPr>
              <a:t>Ética o filosofía moral</a:t>
            </a:r>
            <a:r>
              <a:rPr b="0" lang="es-ES" sz="2000" spc="-1" strike="noStrike">
                <a:solidFill>
                  <a:srgbClr val="000000"/>
                </a:solidFill>
                <a:latin typeface="Tahoma"/>
              </a:rPr>
              <a:t>. México:Trillas.</a:t>
            </a:r>
            <a:endParaRPr b="0" lang="en-US" sz="2000" spc="-1" strike="noStrike">
              <a:solidFill>
                <a:srgbClr val="000000"/>
              </a:solidFill>
              <a:latin typeface="Tahoma"/>
            </a:endParaRPr>
          </a:p>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uillén Parra, M. (2008). </a:t>
            </a:r>
            <a:r>
              <a:rPr b="0" i="1" lang="es-ES" sz="2000" spc="-1" strike="noStrike">
                <a:solidFill>
                  <a:srgbClr val="000000"/>
                </a:solidFill>
                <a:latin typeface="Tahoma"/>
              </a:rPr>
              <a:t>Ética en las organizaciones: construyendo confianza.</a:t>
            </a:r>
            <a:r>
              <a:rPr b="0" lang="es-ES" sz="2000" spc="-1" strike="noStrike">
                <a:solidFill>
                  <a:srgbClr val="000000"/>
                </a:solidFill>
                <a:latin typeface="Tahoma"/>
              </a:rPr>
              <a:t> Madrid: Pearson.</a:t>
            </a:r>
            <a:endParaRPr b="0" lang="en-US" sz="2000" spc="-1" strike="noStrike">
              <a:solidFill>
                <a:srgbClr val="000000"/>
              </a:solidFill>
              <a:latin typeface="Tahoma"/>
            </a:endParaRPr>
          </a:p>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vista Sinergia. (2011). </a:t>
            </a:r>
            <a:r>
              <a:rPr b="0" i="1" lang="es-ES" sz="2000" spc="-1" strike="noStrike">
                <a:solidFill>
                  <a:srgbClr val="000000"/>
                </a:solidFill>
                <a:latin typeface="Tahoma"/>
              </a:rPr>
              <a:t>Gestión ética para el bien común en las organizaciones. </a:t>
            </a:r>
            <a:r>
              <a:rPr b="0" lang="es-ES" sz="2000" spc="-1" strike="noStrike">
                <a:solidFill>
                  <a:srgbClr val="000000"/>
                </a:solidFill>
                <a:latin typeface="Tahoma"/>
              </a:rPr>
              <a:t>Recuperado de http://revista-sinergia.com.ar/wp/.</a:t>
            </a:r>
            <a:endParaRPr b="0" lang="en-US" sz="2000" spc="-1" strike="noStrike">
              <a:solidFill>
                <a:srgbClr val="000000"/>
              </a:solidFill>
              <a:latin typeface="Tahoma"/>
            </a:endParaRPr>
          </a:p>
          <a:p>
            <a:pPr marL="343080" indent="-343080">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obledo Gómez, A. (1999). </a:t>
            </a:r>
            <a:r>
              <a:rPr b="0" i="1" lang="es-ES" sz="2000" spc="-1" strike="noStrike">
                <a:solidFill>
                  <a:srgbClr val="000000"/>
                </a:solidFill>
                <a:latin typeface="Tahoma"/>
              </a:rPr>
              <a:t>Ética nicomaquea. Política</a:t>
            </a:r>
            <a:r>
              <a:rPr b="0" lang="es-ES" sz="2000" spc="-1" strike="noStrike">
                <a:solidFill>
                  <a:srgbClr val="000000"/>
                </a:solidFill>
                <a:latin typeface="Tahoma"/>
              </a:rPr>
              <a:t>. Mèxico: Porrù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992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br>
              <a:rPr sz="3600"/>
            </a:br>
            <a:br>
              <a:rPr sz="3600"/>
            </a:br>
            <a:r>
              <a:rPr b="0" lang="en-US" sz="3200" spc="-1" strike="noStrike">
                <a:solidFill>
                  <a:srgbClr val="000000"/>
                </a:solidFill>
                <a:latin typeface="Arial"/>
              </a:rPr>
              <a:t>¡Gracias por su atención!</a:t>
            </a:r>
            <a:endParaRPr b="0" lang="en-US" sz="3200" spc="-1" strike="noStrike">
              <a:solidFill>
                <a:srgbClr val="000000"/>
              </a:solidFill>
              <a:latin typeface="Arial"/>
            </a:endParaRPr>
          </a:p>
        </p:txBody>
      </p:sp>
      <p:graphicFrame>
        <p:nvGraphicFramePr>
          <p:cNvPr id="177" name=""/>
          <p:cNvGraphicFramePr/>
          <p:nvPr/>
        </p:nvGraphicFramePr>
        <p:xfrm>
          <a:off x="2484360" y="4292640"/>
          <a:ext cx="1871640" cy="1657440"/>
        </p:xfrm>
        <a:graphic>
          <a:graphicData uri="http://schemas.openxmlformats.org/presentationml/2006/ole">
            <p:oleObj r:id="rId1" spid="">
              <p:embed/>
              <p:pic>
                <p:nvPicPr>
                  <p:cNvPr id="178" name="" descr=""/>
                  <p:cNvPicPr/>
                  <p:nvPr/>
                </p:nvPicPr>
                <p:blipFill>
                  <a:blip r:embed="rId2"/>
                  <a:stretch/>
                </p:blipFill>
                <p:spPr>
                  <a:xfrm>
                    <a:off x="2484360" y="4292640"/>
                    <a:ext cx="1871640" cy="1657440"/>
                  </a:xfrm>
                  <a:prstGeom prst="rect">
                    <a:avLst/>
                  </a:prstGeom>
                  <a:ln w="0">
                    <a:noFill/>
                  </a:ln>
                </p:spPr>
              </p:pic>
            </p:oleObj>
          </a:graphicData>
        </a:graphic>
      </p:graphicFrame>
      <p:pic>
        <p:nvPicPr>
          <p:cNvPr id="179" name="" descr=""/>
          <p:cNvPicPr/>
          <p:nvPr/>
        </p:nvPicPr>
        <p:blipFill>
          <a:blip r:embed="rId3">
            <a:lum bright="18000"/>
          </a:blip>
          <a:stretch/>
        </p:blipFill>
        <p:spPr>
          <a:xfrm>
            <a:off x="6894360" y="3860640"/>
            <a:ext cx="127800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TIVOS</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ar las disposiciones legales y reglamentarias vinculadas al ejercicio profesional y al funcionamiento del Consejo, excepto cuando la competencia sea atribuida especialmente a otra Comisió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iciar y proyectar las modificaciones a los cuerpos legales y administrativos que rigen las profesiones de los graduados en Ciencias Económica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ilar y analizar las reglamentaciones profesionales en el orden nacional, provincial e internaciona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monizar las opiniones y dictámenes de las distintas Comisiones con las disposiciones legales referidas a las profesiones de Ciencias Económica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niones</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egundos y cuartos martes de cada 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partir de las 16:00 hor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GESTIÒN ÈTICA EN NUESTRO ACCIONAR PROFES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Las organizaciones forman parte del tejido social donde hacen vida y se desarrollan…”.</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Guillén (200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GESTIÒN ÈTICA EN NUESTRO ACCIONAR PROFESIO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   </a:t>
            </a:r>
            <a:r>
              <a:rPr b="0" i="1" lang="en-US" sz="3200" spc="-1" strike="noStrike">
                <a:solidFill>
                  <a:srgbClr val="000000"/>
                </a:solidFill>
                <a:latin typeface="Tahoma"/>
              </a:rPr>
              <a:t>“</a:t>
            </a:r>
            <a:r>
              <a:rPr b="0" i="1" lang="en-US" sz="2400" spc="-1" strike="noStrike">
                <a:solidFill>
                  <a:srgbClr val="000000"/>
                </a:solidFill>
                <a:latin typeface="Tahoma"/>
              </a:rPr>
              <a:t>La ética es la ciencia filosófica que estudia los actos humanos en cuanto fin último del hombre; y, al comportamiento voluntario del hombre y la sociedad se les denomina moral del individuo o de los grupos sociales”.</a:t>
            </a:r>
            <a:r>
              <a:rPr b="0" lang="en-US" sz="3600" spc="-1" strike="noStrike">
                <a:solidFill>
                  <a:srgbClr val="000000"/>
                </a:solidFill>
                <a:latin typeface="Tahoma"/>
              </a:rPr>
              <a:t> </a:t>
            </a: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García (2009)</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GESTIÒN ÈTICA EN NUESTRO ACCIONAR PROFES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ahoma"/>
              </a:rPr>
              <a:t>“…</a:t>
            </a:r>
            <a:r>
              <a:rPr b="0" i="1" lang="es-ES" sz="2400" spc="-1" strike="noStrike">
                <a:solidFill>
                  <a:srgbClr val="000000"/>
                </a:solidFill>
                <a:latin typeface="Tahoma"/>
              </a:rPr>
              <a:t>es la misma ética que seguimos en nuestra vida personal, ser ético es una tarea importante, accesible a todos: </a:t>
            </a:r>
            <a:r>
              <a:rPr b="1" i="1" lang="es-ES" sz="2400" spc="-1" strike="noStrike">
                <a:solidFill>
                  <a:srgbClr val="000000"/>
                </a:solidFill>
                <a:latin typeface="Tahoma"/>
              </a:rPr>
              <a:t>todos queremos y podemos ser éticos</a:t>
            </a:r>
            <a:r>
              <a:rPr b="0" i="1" lang="es-ES" sz="2400" spc="-1" strike="noStrike">
                <a:solidFill>
                  <a:srgbClr val="000000"/>
                </a:solidFill>
                <a:latin typeface="Tahoma"/>
              </a:rPr>
              <a:t>”.</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ahoma"/>
              </a:rPr>
              <a:t>                                   </a:t>
            </a:r>
            <a:r>
              <a:rPr b="0" lang="es-ES" sz="2400" spc="-1" strike="noStrike">
                <a:solidFill>
                  <a:srgbClr val="000000"/>
                </a:solidFill>
                <a:latin typeface="Tahoma"/>
              </a:rPr>
              <a:t>Argandoña (2003)</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ódigo de ética profesional de matriculados en el Consejo Profesional de Ciencias Económicas de la Ciudad Autónoma de Buenos Aire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ámbulo</a:t>
            </a: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s propósito de este Código enunciar las normas y principios éticos que deben inspirar la conducta y actividad de los matriculados en el Consejo Profesional de Ciencias Económicas de la Ciudad Autónoma de Buenos Aires.</a:t>
            </a: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Dichas normas y principios tienen su fundamento último en la responsabilidad de los profesionales hacia la sociedad.</a:t>
            </a: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Constituyen la guía necesaria para el cumplimiento de las obligaciones contraídas con la casa de estudios en que se graduaron, con la profesión, con sus colegas, con quienes requieren sus servicios y con terceros. </a:t>
            </a:r>
            <a:endParaRPr b="0" lang="en-US" sz="1600" spc="-1" strike="noStrike">
              <a:solidFill>
                <a:srgbClr val="000000"/>
              </a:solidFill>
              <a:latin typeface="Tahoma"/>
            </a:endParaRPr>
          </a:p>
          <a:p>
            <a:pPr marL="343080" indent="-3430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n virtud de esa responsabilidad y de tales obligaciones, deben realizar los mayores esfuerzos para mejorar continuamente su idoneidad y la calidad de su actuación, contribuyendo así al progreso y prestigio de la profes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ódigo de ética profesional de matriculados en el Consejo Profesional de Ciencias Económicas de la Ciudad Autónoma de Buenos Air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rofesionales deben:</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etar las disposiciones legales y las resoluciones del Consejo, cumpliéndolas lealmente.</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uar siempre con integridad, veracidad, independencia de criterio y objetividad. Tienen la obligación de mantener su nivel de competencia profesional a lo largo de toda su carrera.</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ender los asuntos que les sean encomendados con diligencia, competencia y genuina preocupación por los legítimos intereses, ya sea de las entidades o personas que se los confían, como de terceros en general, constituyendo falta ética la</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ptación o acumulación de cargos, funciones, tareas o asuntos que les resulten materialmente imposible atend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SIÒN LEGISLACIÒN PROFESIONAL</a:t>
            </a:r>
            <a:endParaRPr b="0" lang="en-US" sz="32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ódigo de ética profesional de matriculados en el Consejo Profesional de Ciencias Económicas de la Ciudad Autónoma de Buenos Air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 considera falta ética de los profesionales permitir que otra persona ejerza la profesión en su nombre o facilitar que alguien pueda actuar como profesional sin serl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13:01:53Z</dcterms:created>
  <dc:creator>Martha</dc:creator>
  <dc:description/>
  <dc:language>en-US</dc:language>
  <cp:lastModifiedBy>Martha</cp:lastModifiedBy>
  <dcterms:modified xsi:type="dcterms:W3CDTF">2012-11-24T22:49:09Z</dcterms:modified>
  <cp:revision>8</cp:revision>
  <dc:subject/>
  <dc:title>CPCECABA</dc:title>
</cp:coreProperties>
</file>